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2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6F5D-1C40-4119-8539-3A61E599A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A5E5-099F-4CF6-AA56-F42D95671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864D-3D34-4888-A62C-3151EB769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3904-EC38-46E9-982F-3470D2485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E611-3B96-4ED6-9050-397EF3F33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6E51-D6EC-4568-95A1-BBE3DAB2C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BF42-42CA-4FA9-86FF-0F4B89F79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2620-B8F9-41BC-B7E0-3781A1B09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B18A-0E04-4E12-989D-70EF9CB2B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06E7-7261-4C27-9B85-3D8ACEC3C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C20A-70EC-4F29-9CDC-BD774045D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7B51-C45D-44E6-8353-F756F0A84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1DC3-C66C-4967-B4E5-306C908FC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EDB8-B688-4396-8C93-8C49DDBC4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08A5-A0A6-4231-9598-7F214B1BF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EA3-B487-4E5D-9023-F34DE49D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7A0-BB8C-400B-A37B-2BEB3B68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F35-5BDC-43D8-A3B5-73F1CF3F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354-10DA-45F5-95CB-8C4E623C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01B6-30C3-4BFC-87FE-411AAE27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8032-3C73-497C-9CB0-13D53F11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1C01-DF79-49D5-9087-E34B2F0E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E136-7998-492E-851E-4577597C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EF91-3AC8-4897-A6C1-CF4092C1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1CE2-C592-44F3-9740-517489A2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EDA4-4A88-47A1-85A3-EB5BA6F4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5F8-6E94-408D-B9EC-F4F3E178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143F-E230-43F6-8DA1-A098BCE0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569E-588D-422E-BD87-438D82A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9BDE-AB20-4FE9-AC4F-E7093EDF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4985-0EF4-4C1E-98AD-9A50030F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5D6E-AB1F-4A70-9892-272D08C8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768C-2953-4485-8C32-73013BB9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DB7B0-76CE-4955-ADFC-BB10D35E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E6EA-ECA5-455B-A110-1E59512E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B3F4-5617-4550-B128-E6682F7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4ADE9-8046-4F9A-A948-86433667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F02-AF38-435D-8630-1AF016FA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758F-3513-4A78-85B8-01D49F11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DF60-1D6E-4FB1-88FD-72FC8BFF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27C7-A937-4CE2-B7AD-6323207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C96D-4AB4-474B-A19C-B18A38F7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0708-8403-4FB7-B178-F73789B7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7F248-67AC-480A-B273-01CE0600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A80D6-6E83-4BC4-88B3-182AF9CD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39BE2-AE1D-45D7-91A9-38596A55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AFDF-44AF-4C33-92B2-B2CC8F30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54185-D06C-4A33-B2CE-54F02C70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84C-3ABB-4C0B-ADE9-E7648B12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D7EEC-7FF1-4999-988D-900C4E8D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F00F5-BED4-4C39-ADCB-784DFC3F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229D6-443B-4F0D-BD32-A867B67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83A8-6DD3-4177-B088-FC1F44D5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5221-90EB-490C-A050-54EC7372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7825-D578-440A-8A51-36D580B6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C4EF-60A9-467A-8BDC-FFBD8634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4571-439A-4461-94FE-004BCF53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12782-0E41-49A5-9437-E4C406FF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FD32D-1515-406F-955E-7E0B696C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F2A-5F3C-425A-8647-B0CA1232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15548-17C1-432D-8E32-0FEC2F23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5D2DF-CAD1-433C-9A9F-032AAB3B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2BFCF-22E7-4DB7-B09C-06221ED8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F2F1A-4997-41B5-BCE1-5801D81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3EF0F-C818-473D-96DD-9DDB7BBD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E05EB-28F5-4471-BD6E-D8AB6D80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99B8B-3878-42CF-A27B-E7C9650E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F84EB-9AD3-4CC6-9B5B-22BE02DF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4DCD-ED2B-436C-8EAE-D481A85F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0AB82-5776-42C8-AB5C-9D7ECCAE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936-436C-41BE-8984-3B8BEF09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E22B5-8F2C-46F5-9F89-1A3CC13A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E2AEC-5DD1-425A-B5DD-BBDD152B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3952D-F8EB-4523-9053-5CE15C24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C94D7-1B6C-47F5-B72E-BC7D69CA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620A7-2C60-49E0-A5A8-DC16DD78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C610F-5109-4224-BC0A-B2BCCF6C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578B9-5F48-48F1-94FB-8F263A13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20CC3-7F84-4041-8A5F-FBB998A0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5F99C-76EF-418D-9D71-DA5ACF8D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FC40D-8B20-4ECF-AD7E-6E7ADF4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F0A-EB15-466B-BC07-CF45368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69773-2696-4063-898C-81F567BB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C918E-49E0-431B-AEC9-8BBEBF24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56BE5-62CD-4AE9-BCC0-43A3D417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27F57-F623-4208-AA60-6158034D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F6AC0-F058-4742-9CD1-FFE0502D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ECC22-AF49-4F54-97AF-06F726BA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AFD44-E2A2-425F-9512-C9D74F24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D2A58-BC34-415B-903A-F28B53FF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E4C7D-4ABF-409A-B9B7-3153C425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4043A-B0C1-4BB4-912F-378304C0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228-037C-436B-BBDD-3FC3770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673D8-1667-4F14-AEAC-D376C73E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C1FD5-77B0-4881-BB33-C51B7E76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93F3C-FED0-4CA3-9F33-509DDC29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700B1-F558-4D55-AD96-529EF005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7ED16-0BB0-4108-862B-DCE47C5C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990-531D-4756-B057-12B47CE6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8A26-B6DC-4A1D-9777-C6AB4305C85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C292-AD24-49BC-B0E3-5A7E9B07471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C021-BEC9-4807-B91F-0C14D10098B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3D57-3306-4C2D-AF74-10485E3174F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C89C-49FB-4C9F-9B92-001D691B88D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5B33-322C-4C54-B37E-E4560B9F381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62D8-3FCA-4EC5-87DF-FCB52671E7A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youtube.com/watch?v=AlzqmtDvkg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youtube.com/watch?v=yiBaSqO7n9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449-106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mething that causes a person to act in a certain way; incent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y you do what you 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s of motive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king good grades –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rting an exercise program –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ying to someone –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word or an object that stands for another word or objec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s of symbolis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7" descr="flag.jpg"/>
          <p:cNvPicPr/>
          <p:nvPr/>
        </p:nvPicPr>
        <p:blipFill>
          <a:blip r:embed="rId2"/>
          <a:stretch/>
        </p:blipFill>
        <p:spPr>
          <a:xfrm rot="20773200">
            <a:off x="574560" y="3633480"/>
            <a:ext cx="2590920" cy="1933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peace.bmp"/>
          <p:cNvPicPr/>
          <p:nvPr/>
        </p:nvPicPr>
        <p:blipFill>
          <a:blip r:embed="rId3"/>
          <a:stretch/>
        </p:blipFill>
        <p:spPr>
          <a:xfrm rot="1044600">
            <a:off x="6552720" y="4343400"/>
            <a:ext cx="1828800" cy="1847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scarlet A.bmp"/>
          <p:cNvPicPr/>
          <p:nvPr/>
        </p:nvPicPr>
        <p:blipFill>
          <a:blip r:embed="rId4"/>
          <a:stretch/>
        </p:blipFill>
        <p:spPr>
          <a:xfrm rot="20555400">
            <a:off x="3179880" y="4708080"/>
            <a:ext cx="1676160" cy="1648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" descr="gatsby.jpg"/>
          <p:cNvPicPr/>
          <p:nvPr/>
        </p:nvPicPr>
        <p:blipFill>
          <a:blip r:embed="rId5"/>
          <a:stretch/>
        </p:blipFill>
        <p:spPr>
          <a:xfrm rot="534600">
            <a:off x="4952520" y="2895120"/>
            <a:ext cx="18385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pecialized metaphor in which an object is described in a tw0-word phrase and is used in place of a noun or a na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riginally used in Anglo-Saxon and Norse poet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amples of kenning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ky-cand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le-ro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g ra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amp stam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etition of consonant sou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s of allitera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tty Boop birthed a bouncing baby boy named Bo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e sells seashells by the seasho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unkin Donu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uck E. Che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id I’m so sick of love songs, so sad and slow ;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ven though Beowulf was written as a pagan myth, more than likely a Christian monk copied it down, adding Christian elements into the dialogue and plo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ristian elements refer to anything that has to do with God, such as Heaven, Lord, God’s wi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ample of Christian element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ge 21, lines 20-23, “Conceived by a pair of those monsters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born of Cai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murderous creatures banished by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Go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punished forever for the crime of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Abel’s death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an elements have to do with those things that do not relate to God, such a fate, monsters, witchcraft, gods/goddesses (Zeus, Athe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e 33, lines 483-485, “for that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n-stained dem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had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bewitch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ll men’s weapons,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laid spell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at blunted every mortal man’s blade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lgamesh was an actual historic figu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ing of Uruk around 2700 B.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ruk was a Mesopotamian city which was near present-day southern Iraq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lgamesh was a warrior and a builder and was known for his wisdo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epic, Gilgamesh is two-thirds god and one-third ma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 was a cruel and oppressive lead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s people pleaded to the gods, who heard them and created a wild man named Enkidu (en KEY do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kidu was raised by wild anima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hunter discovers him and send a prostitute to tame him and to teach him how to be a ma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kidu hears of Gilgamesh’s ways, so he goes to challenge Gilgamesh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y wrestle, and Gilgamesh wins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two become good friends and set out on adventur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adventure they decide on is to steal trees from a cedar forest which is forbidden to morta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forest is protected by Humbaba, a fiercely evil and deformed monst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rhy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iteration – repetition of consonant sou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cie grabbed a basket of bright, beautiful buttercup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esura – a rhythmical pause in the middle of a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 err is human; to forgive, divin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 beats per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ixture of Christian and pagan ele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nnings – specialized metaphors of comp0und wor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es Gilgamesh fit the HEROIC IDEAL?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Y or WHY NO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manuscript of miscellaneous Anglo-Saxon poems dating from 940 AD, copied in 975 A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eserved at Exeter Cathedral in Engla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book has made it through fires and raids, but not without dam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ver has been used as a chopping bloc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ges have beer stai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me pages have been partly burn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9" name="Content Placeholder 3" descr="imagesCA2N4NYU.jpg"/>
          <p:cNvPicPr/>
          <p:nvPr/>
        </p:nvPicPr>
        <p:blipFill>
          <a:blip r:embed="rId2"/>
          <a:stretch/>
        </p:blipFill>
        <p:spPr>
          <a:xfrm>
            <a:off x="2514600" y="1828800"/>
            <a:ext cx="3692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egy - a poem that mourns the death of someone or laments the loss of someth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egory – use of characters, settings, or events to stand for abstract or moral concep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poem is NOT a stor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a look at life from the point of view of someone who has known hardship and sufferin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ve you ever experienced feeling torn between wanting to be safe but wanting to seek adventure at the same tim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me feel the seafarer is speaking to a younger man who is eager to go to se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s feel the seafarer is exposing his inner conflic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rst part (up to line 64) – he speaks of the cares and suffering of his earthly existe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part (line 64 to end) – he longs for the joys of heaven; this is his only concer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ll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emy’s swor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o is the main character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seafar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is the poem about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ffering, hardshi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re does the poem take plac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n the open se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does it take plac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uring Anglo-Saxon times; over a lifetime; win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y does the speaker return to the se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e feels himself being called back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ennin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mager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legiac mood (a sense of sadness over the grimness of earthly life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liter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youtube.com/watch?v=AlzqmtDvkg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4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3182 lines as opposed to over 15,0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pic – long narrative poem about the adventures of a hero whose actions affect the fate of a n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rbel"/>
              </a:rPr>
              <a:t>Iliad, The Odysse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nglo-Saxon heroic ideal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rbe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rified by the people he sav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tremely </a:t>
            </a:r>
            <a:r>
              <a:rPr b="1" lang="en-US" sz="2600" spc="-1" strike="noStrike">
                <a:solidFill>
                  <a:srgbClr val="ff0000"/>
                </a:solidFill>
                <a:latin typeface="Corbe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ca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rbe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nsters are defeated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uperior </a:t>
            </a:r>
            <a:r>
              <a:rPr b="1" lang="en-US" sz="2600" spc="-1" strike="noStrike">
                <a:solidFill>
                  <a:srgbClr val="ff0000"/>
                </a:solidFill>
                <a:latin typeface="Corbe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rength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nemonic device = GEM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oet Homer wrote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Odysse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osed sometime between 900 and 700 B.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ttle is known about Hom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nam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Home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may mean “hostage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 may have been a slave or descended from slav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mer used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epic simile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extended comparison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)  These comparisons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last for several line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us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mpare extraordinary, heroic actions to simple, everyday events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ith which Homer’s audience would be famili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0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ld in oral trad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ubris – extreme pri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0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Greek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chilles – son of a mortal king, Peleus, and the sea goddess, Thetic; king of Myrmidons; mightiest of the Greek warrio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troclus – Greek warrior; dearest friend of Achil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Troja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ector – son of King Priam and Queen Hecuba; commander of the Trojan for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ris – son of King Priam and Queen Hecub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iam – king of Troy; father of Hector and Pari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go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pollo – god of poetry, music, prophecy; often referred to as the only son of Zeus and Leto, the daughter of the Titans; sides with the Troja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thena – goddess of wisdom; takes the Greeks’ side in the conflic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Zeus – father-god; remains more or less neutral throughout the conflic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ong with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Odysse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ells the story of the Trojan W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war began with a beauty page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phrodite, Athena, and Hera decided to compete for a golden apple which was inscribed “To the Fairest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ods chose Paris, the prince of Troy and  a mortal, to judge the page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is was young and handsome but naïv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oddesses each attempted to bribe Paris.  He finally accepted Aphrodite’s bribe because she offered him the most appealing gift—marriage to Helen, the world’s most beautiful woma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0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There was a slight problem though.  Helen was already married to King Menelaus of Greece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Paris took her anyway, and they sailed for Troy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The Greek chieftains were outraged by the abduction.  They were bound by oaths of loyalty, so they followed the leadership of Menelaus’s brother Agamemnon and attacked Troy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0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reek war party laid siege to Troy.  This led to a conflict which lasted ten years before the Greeks defeated Troy and recaptured Hele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was due to the craftiness of Odysseus that the Greeks were successfu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0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revolves around two main character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hilles – the bravest and most handsome warrior in the Greek arm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ctor – the honorable warrior-prince of Tro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tragedy of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set into motion because of human emotion:  the anger of Achilles toward Hec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ctor kills Patroclus, Achilles closest friend, and takes his armor from the corp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hilles seeks reve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0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pic simi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ubri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ds’ involvemen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central idea or insight of a work of literatu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OT the same thing as the mor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ften impli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did the hero do in the story?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ow did the hero’s actions show his concern for society?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Both questions sound the same, but the first deals with the PLOT of the story.  The second deals with the </a:t>
            </a: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theme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of the stor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are some common themes in literatur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rime does not pa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dversity (hardships) can be overcom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Life and death are intricately connecte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milarities between Beowulf and Hect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Beowulf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– epic hero; a Gea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recca – Beowulf’s friend &amp; competito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iglac – Beowulf’s uncle &amp; feudal l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Grendel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– man-eating monst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Unferth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– skilled warrior of Hrothgar; jealous of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Hrunting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– Unferth’s sword used by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Hrothgar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– King of the Danes (Denmark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Geats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– Beowulf’s tribe (Swede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Grendel’s mom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– she-wolf; water-witch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Herot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– Hrothgar’s golden mead hal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Wiglaf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– Beowulf’s loyal warrior; fights the drago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map beowulf.jpg"/>
          <p:cNvPicPr/>
          <p:nvPr/>
        </p:nvPicPr>
        <p:blipFill>
          <a:blip r:embed="rId2"/>
          <a:stretch/>
        </p:blipFill>
        <p:spPr>
          <a:xfrm>
            <a:off x="2743200" y="1508040"/>
            <a:ext cx="3657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3" name="Content Placeholder 3" descr="village house.jpg"/>
          <p:cNvPicPr/>
          <p:nvPr/>
        </p:nvPicPr>
        <p:blipFill>
          <a:blip r:embed="rId2"/>
          <a:stretch/>
        </p:blipFill>
        <p:spPr>
          <a:xfrm rot="20789400">
            <a:off x="461520" y="197136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mead hall.jpg"/>
          <p:cNvPicPr/>
          <p:nvPr/>
        </p:nvPicPr>
        <p:blipFill>
          <a:blip r:embed="rId3"/>
          <a:stretch/>
        </p:blipFill>
        <p:spPr>
          <a:xfrm rot="992400">
            <a:off x="6062400" y="1933560"/>
            <a:ext cx="2600280" cy="1752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ead hall beo.bmp"/>
          <p:cNvPicPr/>
          <p:nvPr/>
        </p:nvPicPr>
        <p:blipFill>
          <a:blip r:embed="rId4"/>
          <a:stretch/>
        </p:blipFill>
        <p:spPr>
          <a:xfrm>
            <a:off x="1981080" y="3886200"/>
            <a:ext cx="51818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youtube.com/watch?v=yiBaSqO7n9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of vivid or figurative language to form mental images, figures, or likene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agery appeals to ALL senses—sight, smell, taste, hearing, tou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8:09:43Z</dcterms:created>
  <dc:creator>pcoles</dc:creator>
  <dc:description/>
  <dc:language>en-US</dc:language>
  <cp:lastModifiedBy>user</cp:lastModifiedBy>
  <dcterms:modified xsi:type="dcterms:W3CDTF">2013-08-12T16:02:56Z</dcterms:modified>
  <cp:revision>189</cp:revision>
  <dc:subject/>
  <dc:title>Anglo-Saxon Literature</dc:title>
</cp:coreProperties>
</file>